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9.jpeg" ContentType="image/jpeg"/>
  <Override PartName="/ppt/media/image1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Štěpánka Jenešová" initials="Š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presProps" Target="presProps.xml"/><Relationship Id="rId56" Type="http://schemas.openxmlformats.org/officeDocument/2006/relationships/commentAuthors" Target="commentAuthors.xml"/>
</Relationships>
</file>

<file path=ppt/comments/comment25.xml><?xml version="1.0" encoding="utf-8"?>
<p:cmLst xmlns:p="http://schemas.openxmlformats.org/presentationml/2006/main">
  <p:cm authorId="0" dt="2021-05-31T15:42:59.657000000" idx="1">
    <p:pos x="10" y="10"/>
    <p:text>příklady ze života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dt" idx="5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ftr" idx="5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 type="sldNum" idx="5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3284-616B-4AC8-8A66-8853A3FB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Zástupný symbol pro číslo snímku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03F-A51F-4D67-9565-ADE70427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Zástupný symbol pro číslo snímku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B8F-CDA6-4F8A-9DCE-D3FE5B874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Zástupný symbol pro číslo snímku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AB3-93A7-40C4-A3CA-DAD65851A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B392-60F7-4039-94FB-B2040D35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26E5-4C61-46BF-94EF-72CD4BAD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7680" y="746280"/>
            <a:ext cx="4502160" cy="37224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F734-99CA-4D17-BDE9-AA517BF01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56C3-56F8-4BFB-8E7E-8D887AEB4B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35EE9-B241-4ABE-AC85-DEB7868110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25A7D-0BA8-45E2-BD0D-08A1EB517D9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2FA07-6798-4DCF-89B8-C4C1515529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1B9FF-ADB0-492F-896E-4118C25AB7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ED3EE-58D8-4AD4-8CD1-D0F2DA0356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F87AB-59EE-478E-97CF-9A9C8E85F8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8A469-E674-434F-AF18-028C348EF8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975EC-2DAC-4837-94A1-19352F32D9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27022-043F-4898-B29B-CADD51C5A3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4DEA-C5E4-4C2F-8116-C47647BFB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90AA-2EC9-4D41-9C57-08D15A70E28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E375-1349-4359-9F5D-C593CCF1CA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F8BE-7BA9-4C34-816C-9D6B0A141A1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7627-2D72-4DE9-96B8-EDAEC57E84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52121-76A4-4B22-995E-61F2BAF736B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77CFD-7C6F-44C9-848B-64BCCF6DDE8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65418-08CC-4E1E-871B-615E062980A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8176-CBE3-4F61-9DA1-CBC38E13C6F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2EC2-E6D2-4497-B9EB-B6C771EB5B7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D8F0-0138-4516-A3A9-76D6F3F62F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6110-CCD5-4932-AE5C-323094644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9493-616B-411D-9B41-49CD2D58956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E1E2-7D52-4890-9CA6-AE4086CDC3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8EF28-D269-4A0B-90F0-2E7EFFD051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DCB9D-87DC-4C2A-8659-E5543D7795E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AEB78-99C2-4F30-A89E-B0E30AC144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99DF0-4182-4763-844C-F779D91DC7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44CBA-5D74-4AC5-9009-84B4122F63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F3512-BB8F-4C71-B3DB-4210AEE413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4FFD7-79F7-473B-B958-CDEEA9583E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05038-C3B3-48F0-B3C7-FC7F9AE44A1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42774-1668-4911-9CC3-49DBC4591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59240-0444-4C6A-B946-9B95B4FEC5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B9537-9957-4E71-8AFE-37D478475C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C7757-4C65-4B7E-B380-D5BFC6CC89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54021-B1BE-4525-8913-F2C1D2FE14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04C7AD-3071-4723-96EE-E5E4C39C248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63994-F0CD-4829-B106-B1D81C3A95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E9569-C10A-402A-B2AA-3119B0C0A9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AF2625-F830-49F6-BAC5-FAEDF05580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B76F4-25D7-454E-8253-13659C9F516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BE7F0-58D7-4705-81D8-C540F7E72AD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20D93-A078-459E-8B86-A16E3B5DF8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17127-C8F0-4B93-BA98-EBBF83CD9C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F98F1-876F-499B-806B-556A61B425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6599AF-27D5-4990-A94B-26656047F46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B8E079-D3E5-4FC8-96D0-8207591742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62FC3-2ABF-45CA-9764-B932961256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827602-2FB5-4435-86BD-BF128A25E8A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07E15-195A-449B-B07F-B755763CDDD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D711-97AF-4188-96A6-9A07B561E5A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7F047-6CBD-40A3-AAAE-88F5239A5B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78A7-798A-43C5-9228-06EDC491BF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8DE01-3238-45E8-B5AF-596C2FD8A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436DA-5E8B-4F6E-A5AA-C3AAF1ED56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69CA-86EC-4679-9D99-7323D1BECFC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693E-10ED-4912-A382-00F96E01D0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46FB-DBC1-48DA-8A55-76A6845BDE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FBA86-B6FE-4131-9476-161ED5011B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AFE7-D837-4CD0-B99D-D0DB28556C3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53739-4D5D-4A2B-8B64-1181F83F7AD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67F2-2F6A-40BB-9810-6EC62B88AFD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601DF-B7A4-4D0B-9015-031098CCB10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17665-B9E9-405B-AC5C-24154B2FB0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DD668-DB27-4891-8EB4-EBBC16A23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C52A-516C-498B-99E4-BDA14AE2AB7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A729B-0CC5-4FE4-AE1C-99371030007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580E4-13B2-4D02-BEBB-40E8CE8F9FE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E2B0A-9055-4A56-9B41-86C737D6CD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6C199-84B6-4374-B225-0A99069C381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3CD65F-48AF-44DE-9861-B5F7BE337A8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E3F56-E1B5-4917-ACC2-326F24BC3A1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49159-9654-498A-A1A1-D279FE73CE3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438B9-7563-42D1-962C-3AE642B242F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30581-DDFD-46F0-A489-483C2121B7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0D07B-46E4-4F34-ABDC-5AAEEC043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CD074-0BEC-4330-9417-40C4814A75A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1DD1-E3EC-488A-B73F-BBD6EA89B1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2B38C-739B-4D3D-AF4E-5BFE3C5EAA1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7B32F-D249-441E-B565-5A772244B4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86CA0-B26A-427E-B513-9438657A8E8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0E9BB-B7AE-4FE1-AA62-9F44AFB514D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59854-B3E5-4257-8F62-A7B4E042CE0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4AAA4-5FA9-41DD-9691-7177918B9C9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CD131-C24E-4F87-AFCD-BCF33B084BA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AC760-82BC-4092-BDAD-9AEA7F15A4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89A3E-25E8-43CB-8C9F-D0F1AB4F2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9950-BA95-42D9-B2E3-39A52E77262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4D36B-38E5-43A9-9E77-622B2B62EE4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D938F-6720-47CD-81E7-579018C6C1A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1C743-4420-4504-8F9B-C479DEA1DA3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53833-F37B-4432-A619-4CC6D3A4A6C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A0E9F-2C58-4998-87F0-1A7171F70D6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BECDE-8D5F-49B8-9329-B00E7E66FB6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0D2BB-98C6-44CA-A0FE-0753E3065FE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8E5F7-D03B-4A11-B05F-9F04353E018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9983F-2D2B-4412-8FF9-26C42A8B0F5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A9B4D-632C-4D2C-AF99-925AADCE74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8C0E-3B15-4190-8C42-2FBED695A1F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C83E8-20BC-4FAC-8E6D-DC22CAC2146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9AC92-9CCC-46D2-9A9C-F2A9983962E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3E3C0-3DE5-437C-B84C-80955F24B80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F36584-B9CD-4A79-B608-7FB7C282887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18E619-D132-4772-932B-31FE57C7C16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5BFE9-3BE8-46D9-B914-8DBC4E3FB8C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69CB20-7007-48A2-BA16-26232E41336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A171AB-4EE3-4C29-AF7B-43FDB6FE538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C28E41-BED6-49CC-AA8F-98FFF0EBE0D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942E0D-AC16-4F5E-BC71-3BD996D1B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1EBC-826F-405C-878C-507810F1D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A685F-C681-44AA-814A-4E4F9ACAB32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99A8E0-BC20-4526-B556-51FA2359A9E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90CC40-F043-4DD8-A5E4-E342A9D51CF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BF9C0B-9B7B-4FC5-8601-83757EB9011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829A9E-F06E-4A62-9418-1C38C0DB356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38E74-6847-41FD-B085-A742545641B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52129-46E2-44A1-80B7-28ACC18001D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ADD61-0288-418F-B261-E5852B0BCE1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81BCE-2F2B-45AB-A67E-0A141D4C98B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F718D-694D-4278-AF12-68D2C5493B2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B6AFB-0CF3-499D-B44A-8DC80A6500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31EFD-C3B1-43AB-8525-1E7CC4FAB73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E43F2-007A-4652-91F8-A3659C59C53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6A3D9-4D6C-47F6-8591-6D9AF0AEB56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02619-CCA7-40A5-9893-85CFD72C859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14707-1975-4634-8E15-981ACA6650A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CD150-4836-43B7-B7C1-A4830216066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05E51-C745-4E9C-8F95-2BD1A9B2BBD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6B21C-5A86-4C57-A5BA-313BA69EC90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B8737-6CD2-458E-9046-C5A6BA57EAD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139E6-0AEF-4A97-B56D-8EE2491714B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35B17-5E9E-41AC-A35F-416A5CBAD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AA573-BF18-4A80-809F-1CD656A60DE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86FD1-13B6-4A5D-817C-B145E88E4EE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D5D21-0B5E-4974-B3AB-DE1F8BEAEF8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E49B9-496E-4377-824E-633AE1C9703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AC507-E78E-43C1-9029-F93C97EBA04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5DFEE-5C6E-42D7-8794-B893209C062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FE0B-D379-44B1-AF3B-474DC78C34D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DA9E-3314-4541-94CA-B654BD53A6C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C8CE8-A312-4E7F-B2D0-092AA3C50BB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0A8F7-889D-4855-8A07-54D32F3C87B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73D2F4-F601-4915-A3D2-454F9EF01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88403-4701-4FB0-9017-3044A9419ED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02CEA-DC4F-473E-A433-B5FE37C864E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0EAD4-C304-42B5-ACF6-416FAC2B3BA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3543D-CCAE-447A-B889-CE1FA0B04D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7311A-9975-443D-99E7-8AC3DCA12D1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BB58B0-58A1-4AEF-9960-4783CFB2A5A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0A464-F1C9-4305-88F7-D8AC6A7B928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3D6CC-79BB-4C73-8CE7-D2688CE8690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249E1A-F290-4A1B-B4E8-C447642D6C1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21401-002D-47B2-B231-9CE2F1D8E7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316E9C-4113-4CDF-B060-AD00B7B06F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2D32-0018-4B0A-939E-FA0B37F9227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72FE4-34AE-4AB9-A82E-CA0067D43B7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884E09-989B-4B8F-9879-10F98634560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C0EA16-D014-47E5-BB29-F1221F2866A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25636B-B0A8-4A0E-9D8F-41624CAD598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323A1A-2AE2-4840-B8A7-EB6749C57A3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76AAFE-095D-4EE0-B0D0-726EC45549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57260B-B91A-49AC-97FB-A01074F0F0A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0B5D7F-19AE-4BB3-9944-1FCF99F8B18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3B2DB9-A122-41BF-9849-48FAFF03575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7EEAF6-D0A8-40C5-9EFD-5FE8E70168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707039-6155-4A54-B926-501902B3E71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B18F9F-2884-4411-8838-F61C99DC95A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47444F-5FAF-4EED-8117-EAAD78354E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A647C-5F9E-45C6-9C44-9623136E9ED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98FC1-0670-41DB-8835-CA1E1D678C8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4E100-8C65-4E63-AE24-E36992D8979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83A4E-110F-4544-85C4-9A08974F848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04D5E-F33F-43E4-B92E-1F24C7CC778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A1D5E-D36A-4508-AB7D-4E1FA23E48F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F11A0-D68A-4E89-9652-03959E8385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28413-609F-4249-B809-24282894B8F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41273-4732-462C-9E16-BC8ECBCBD99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3F587-0BF0-40A7-A52E-47DFAAFCA5D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F0D7C-7462-49C0-B1AD-9FAB7F09C50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653F7-ABD5-4BDB-A4F2-5A160610763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D3E07D-1F26-4EB4-8020-626862F7AAA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99886D-B38A-4462-9CFF-634CB4306B7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96E842-B017-40EC-98BD-45FB179179C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83796C-0BE5-4506-A016-0E0CF1175D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07FFD2-05FF-42D9-B13C-A403073EBC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45802-A9A1-4417-9C8E-33466073056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25803A-0CF2-4B10-B755-A9C49032E94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748333-6440-4277-B001-1B556CA0F0C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730053-7BB8-480E-81A6-154F30288BD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7702CF-7D09-49A4-93F1-D7685EF4FEE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BA7A76-5D97-4F53-90CA-8ABFB692B69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E57155-0FF8-47CC-9FAA-CACE172631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993D34-118C-4159-BC86-96EA501FF6B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BFE143-526B-4361-A4CD-DCC33FF7CB3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95651F-1DD3-45CA-97AE-03E6B1BAB6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7B53FB-9886-4BD1-A59A-D547B781369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92BF93-B297-41CA-B6E2-78530F219C5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731B7C-ADF1-442D-9DF1-405B7EDD4AC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F142CA-A015-4837-A395-DE0FF520B07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D3A3AD-4A6A-424B-9FE5-29E82B9A0D1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51513D-0351-432F-ACF6-C4B5CE670F2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E0400E-31BB-49C3-BED7-3C22B1643FC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52C283-33BA-4258-BE11-0DCF77A45AC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E93708-221E-422F-95D3-E874EA2466E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EF621-A74F-4C73-AE23-32D2AA9A5A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63513-1139-42F7-90D9-5BD4747BDA6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675F9-FF85-4249-AA7E-75C19B124E2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15428-7543-4D4E-97A7-25AF7F36BC9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2EECA-D9B6-433E-90C8-061550CBA4B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BE7AB-F313-4A84-9EC8-D8D4BE5C191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3678C-4750-450B-BFDA-27A005A535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D75E4-FB7B-4E96-90E8-EA269B23642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3B16A-9521-4671-A885-6658D4FBF71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48A9E-43A1-4282-A0A3-63889853405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5075E-4105-4E3A-A424-75832E1A9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DBFD-A096-491C-946F-1E985AA34F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0F079-9B8F-4156-B1FB-5134DC1A93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CACC1F-F494-4012-8E3A-2FB8CA363C4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EE2C00-2784-4C03-A739-B98013025B1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2B2143-E64A-4F02-8490-43862C13B0B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2A707C-2CD4-445B-B1EA-0F69755E36D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E691FA-6434-4016-A807-A0115431380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74CD60-0A86-47B4-AEC6-EA022B1E138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0A464C-6F77-4B6A-81CD-D4B14127C56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471786-E929-4024-B764-F5B85A4BBFD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95F28A-349D-432E-B87E-A3781C686E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BD2AD4-F82D-4547-8ABE-C2EEB58B2DD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5901E2-1282-4F5F-84C9-8415405AA11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83E8D7-C506-4192-AEC0-71FC539621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FA8-F5BE-4E80-90E6-206EE9282A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FF6C-E31F-4AD1-9912-18924321CF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D9C-1A0B-47DD-BAEB-37AB10FD7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AAB2-991C-4A7B-96D0-6A81348E8E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D078-F41C-4D81-863D-9F1B1B6013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D2E8-5428-405F-ABBD-4B909FA347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B577-0930-4FDB-8CD6-A664CE51E8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6666-5B2F-4529-BFDD-CC8428CEAF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773-0B60-404F-B9E7-F32F949613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2E25-E4E5-4540-B306-B0B09A7486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03D-7030-45C0-B848-635BC92274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E837-7870-47ED-98E0-C41DC7B3F9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0927-9A56-42D1-BC06-973B8503E0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CCECB-801F-4308-BB48-0C3A5BA9B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D5D0-25E4-42ED-9B42-E98EABD7A1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31B77-BD30-4204-B23C-D14F7D9C6D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1E135-BDF2-4648-8D1F-C9C3DDD821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CFED3-0615-4EDC-9548-F7E49ADF89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239BA-1788-4EA6-BF8F-986F521E8B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E3C9F-E622-4B21-BEF2-49876A60B5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8E39A-A6C7-43AB-8805-6619D810D1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06C78-335D-4335-9EBC-A5664DBD87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D2C8A-6E4E-4A52-BECB-4F93B31AB3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202C7-AE13-451A-BE45-8452E411A2C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2B48E-99E0-4812-BD90-97D608FB2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53A9-B93F-45B1-8E38-B908558872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CC6D5-0160-40A4-82E0-392F48C5DF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F096B-4EF9-4D0D-B8DF-9AB538EF9D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A96C2-8468-48EE-8F27-1CEE4854789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6CBD7-D08D-473B-85CE-377385BEC5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652AE-2298-406B-BE3A-3B6F69D120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31644-4B10-471A-8A80-60CBA1864B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BE13C-3E06-46DC-BBBB-008BF33529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08EE4-DE57-44BF-A180-4BAD4935D3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52949-06DC-4475-B5AF-6E4E16DEFD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92734-8616-4706-9E72-2D04686C8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3428-06FE-48AC-B147-E51A54596C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B606A-1311-4708-B2FA-6C4FA80574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A69D9-F99B-4F3E-9187-5866595B68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CBB16-1C9A-4DF3-A385-33B57C888E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09D2-4B76-4F92-B9CF-8830CC9942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BBA1-FC3B-4958-9DE2-3825E45627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940B-4459-4FF1-881F-1A8F6B2E57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BE8F-46C3-48A0-9313-D76B33878D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9442-DD1E-41E5-B11A-414A5C1954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426D-F062-448D-ABB1-DEE3893983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B4DFA-680D-4E7D-B7F0-97331019C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4CC3-77C7-4F75-8CCE-3C3DD2723D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AA18-6ADC-4615-8720-1FE48F2151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1127-0674-4DB6-8338-AF22BD2371F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C6FF-8CEE-43C9-ADD3-58A3175F66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8DE2-4D48-4E0B-9F4A-F034641D43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2FB86-9649-4F24-8DC8-8B80DE8ACC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FB464-5F83-45BE-9B03-FA0EA63249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C51BE-AD20-45EC-86F1-FE258AE4E9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B815F-5AFC-48BC-AE1E-8F356140EC3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3B2D2-105A-4FA8-87E6-EC8742172D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90BD5-7D38-4653-9D52-2D6439097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2803-3474-476E-9002-804701C51E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520" y="274320"/>
            <a:ext cx="728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02DBE-651A-409E-B817-E849DDA545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BEBEF-1ED5-4BDD-9645-0D7C15CE98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51E82-AD76-4439-873F-7D2894E1CA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AEBF6-AC5D-4B71-A512-FDFC102E61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693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2F2A5-475D-4346-81CF-1DF09FD1ED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2936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739CB-13AB-4590-8456-9BCC15F8ED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2048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4800" y="3964320"/>
            <a:ext cx="223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38644-BCB1-446F-8935-C0FC79E182F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31A2C-0258-4EB1-830E-61B5F97AC7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966AF9-BFB7-4B4C-AE42-326F31356A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169B5-AB75-41F6-9A3B-E7062F47D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8"/>
          <p:cNvGrpSpPr/>
          <p:nvPr/>
        </p:nvGrpSpPr>
        <p:grpSpPr>
          <a:xfrm>
            <a:off x="-200160" y="0"/>
            <a:ext cx="1384200" cy="6858000"/>
            <a:chOff x="-200160" y="0"/>
            <a:chExt cx="1384200" cy="6858000"/>
          </a:xfrm>
        </p:grpSpPr>
        <p:pic>
          <p:nvPicPr>
            <p:cNvPr id="4" name="Picture 15" descr="sidebar"/>
            <p:cNvPicPr/>
            <p:nvPr/>
          </p:nvPicPr>
          <p:blipFill>
            <a:blip r:embed="rId2">
              <a:lum contrast="-50000"/>
            </a:blip>
            <a:stretch/>
          </p:blipFill>
          <p:spPr>
            <a:xfrm>
              <a:off x="-200160" y="0"/>
              <a:ext cx="12952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Rectangle 16"/>
            <p:cNvSpPr/>
            <p:nvPr/>
          </p:nvSpPr>
          <p:spPr>
            <a:xfrm>
              <a:off x="1095120" y="1440"/>
              <a:ext cx="88920" cy="6856560"/>
            </a:xfrm>
            <a:prstGeom prst="rect">
              <a:avLst/>
            </a:prstGeom>
            <a:solidFill>
              <a:srgbClr val="b40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75B-9335-4D5E-8217-0564875B56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3" descr="pdi_blk w tag"/>
          <p:cNvPicPr/>
          <p:nvPr/>
        </p:nvPicPr>
        <p:blipFill>
          <a:blip r:embed="rId3"/>
          <a:stretch/>
        </p:blipFill>
        <p:spPr>
          <a:xfrm>
            <a:off x="6769080" y="6114960"/>
            <a:ext cx="216684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7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8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A26-4978-4803-A2D6-32E5096320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9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0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6D5D-58B6-44DC-B069-99181AF134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21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22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8682-EA45-47A5-9082-BFEB4F1FD8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F7B1-5086-4312-BEF8-8A086478A6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5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6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2CF1-A2C3-4F58-9CBA-F667831A1E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7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8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6929-C8FA-424B-9243-03066D96D6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ftr" idx="29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30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448A-9BA7-47BC-B069-E3592BADA8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ftr" idx="31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sldNum" idx="32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2A7-916E-4973-A21A-483DC13F08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ftr" idx="33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sldNum" idx="34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37CD-AF33-4B34-9C9E-DA8F1B639D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35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36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6C0-715C-4239-B0AC-F726F232E7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692360" y="1828800"/>
            <a:ext cx="5749920" cy="2860560"/>
          </a:xfrm>
          <a:prstGeom prst="rect">
            <a:avLst/>
          </a:prstGeom>
          <a:solidFill>
            <a:srgbClr val="ffebaa"/>
          </a:solidFill>
          <a:ln w="76320">
            <a:solidFill>
              <a:srgbClr val="a38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676520" y="3268800"/>
            <a:ext cx="5638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B6E-BEB0-4DE7-928F-F9E5220B91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pic>
        <p:nvPicPr>
          <p:cNvPr id="50" name="Picture 28" descr="pdi_blk w tag"/>
          <p:cNvPicPr/>
          <p:nvPr/>
        </p:nvPicPr>
        <p:blipFill>
          <a:blip r:embed="rId2"/>
          <a:stretch/>
        </p:blipFill>
        <p:spPr>
          <a:xfrm>
            <a:off x="6769080" y="6114960"/>
            <a:ext cx="216684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7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8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538-D0F7-47BC-BE26-B887B344B1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ftr" idx="39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sldNum" idx="40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278-3B63-4481-850E-4EECD03AE1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ftr" idx="41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42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C511-22B8-4F22-A8B1-84B45F75DA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43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44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61E-EB9C-4559-9194-B6059C116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ftr" idx="45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sldNum" idx="46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433-88DD-4CB5-BCCA-BC157DEC14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7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sldNum" idx="48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0E4-1A50-4E6F-A233-36A8EEC61D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body"/>
          </p:nvPr>
        </p:nvSpPr>
        <p:spPr>
          <a:xfrm>
            <a:off x="1707840" y="3428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310680" indent="-155160"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1" marL="427320" indent="-77400">
              <a:spcBef>
                <a:spcPts val="601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2" marL="738360" indent="-77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3" marL="854640" indent="-77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4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5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lvl="6" marL="971280" indent="-77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8b5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ftr" idx="49"/>
          </p:nvPr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sldNum" idx="50"/>
          </p:nvPr>
        </p:nvSpPr>
        <p:spPr>
          <a:xfrm>
            <a:off x="-360" y="6618240"/>
            <a:ext cx="2379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8B3-7929-4707-B8BB-985BAA87FD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9"/>
          <p:cNvSpPr/>
          <p:nvPr/>
        </p:nvSpPr>
        <p:spPr>
          <a:xfrm>
            <a:off x="1692360" y="1905120"/>
            <a:ext cx="5749920" cy="2860560"/>
          </a:xfrm>
          <a:prstGeom prst="rect">
            <a:avLst/>
          </a:prstGeom>
          <a:solidFill>
            <a:srgbClr val="ffebaa"/>
          </a:solidFill>
          <a:ln w="76320">
            <a:solidFill>
              <a:srgbClr val="a38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6738840" y="6087960"/>
            <a:ext cx="2194200" cy="662040"/>
          </a:xfrm>
          <a:prstGeom prst="rect">
            <a:avLst/>
          </a:prstGeom>
          <a:solidFill>
            <a:srgbClr val="46402d"/>
          </a:solidFill>
          <a:ln w="12600">
            <a:solidFill>
              <a:srgbClr val="9d8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46" descr="pdi_white w tag"/>
          <p:cNvPicPr/>
          <p:nvPr/>
        </p:nvPicPr>
        <p:blipFill>
          <a:blip r:embed="rId2"/>
          <a:stretch/>
        </p:blipFill>
        <p:spPr>
          <a:xfrm>
            <a:off x="6772320" y="6116760"/>
            <a:ext cx="2174760" cy="59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0928-4FD5-4F61-A8F3-56F1946E01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2E56-8592-40D1-8445-F1B5CF987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9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0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F04C-690E-40E0-9631-55BD72F44A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8F5-0736-4D6D-A4D8-44ED373EE1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3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4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C16F-B712-4B39-841E-0E6687BFB9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002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34720">
              <a:spcBef>
                <a:spcPts val="700"/>
              </a:spcBef>
              <a:buClr>
                <a:srgbClr val="b4002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spcBef>
                <a:spcPts val="700"/>
              </a:spcBef>
              <a:buClr>
                <a:srgbClr val="b40020"/>
              </a:buClr>
              <a:buSzPct val="12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66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099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5"/>
          </p:nvPr>
        </p:nvSpPr>
        <p:spPr>
          <a:xfrm>
            <a:off x="1352160" y="6267240"/>
            <a:ext cx="3962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6"/>
          </p:nvPr>
        </p:nvSpPr>
        <p:spPr>
          <a:xfrm>
            <a:off x="0" y="6611760"/>
            <a:ext cx="24120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942-E183-4304-BA07-90DCB495C3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8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pic>
        <p:nvPicPr>
          <p:cNvPr id="1056" name="Zástupný obsah 5" descr=""/>
          <p:cNvPicPr/>
          <p:nvPr/>
        </p:nvPicPr>
        <p:blipFill>
          <a:blip r:embed="rId1"/>
          <a:stretch/>
        </p:blipFill>
        <p:spPr>
          <a:xfrm>
            <a:off x="-54000" y="809640"/>
            <a:ext cx="9252000" cy="5238720"/>
          </a:xfrm>
          <a:prstGeom prst="rect">
            <a:avLst/>
          </a:prstGeom>
          <a:ln w="0">
            <a:noFill/>
          </a:ln>
        </p:spPr>
      </p:pic>
      <p:sp>
        <p:nvSpPr>
          <p:cNvPr id="1057" name="Zástupný symbol pro zápatí 3"/>
          <p:cNvSpPr/>
          <p:nvPr/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„</a:t>
            </a: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můj hlas“?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064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zujt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ten svůj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pověda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onivý, vysoký, sametový, nakřáplý, jasný, hluboký, ……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Zástupný symbol pro online obrázek 5" descr=""/>
          <p:cNvPicPr/>
          <p:nvPr/>
        </p:nvPicPr>
        <p:blipFill>
          <a:blip r:embed="rId1"/>
          <a:stretch/>
        </p:blipFill>
        <p:spPr>
          <a:xfrm>
            <a:off x="4156200" y="3357720"/>
            <a:ext cx="3760560" cy="2379600"/>
          </a:xfrm>
          <a:prstGeom prst="rect">
            <a:avLst/>
          </a:prstGeom>
          <a:ln w="0">
            <a:noFill/>
          </a:ln>
        </p:spPr>
      </p:pic>
      <p:sp>
        <p:nvSpPr>
          <p:cNvPr id="1103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42800" y="274320"/>
            <a:ext cx="8167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Cvičení 1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25040" y="1347480"/>
            <a:ext cx="7885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Počítejt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od 1 do 10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a zesilujt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hlas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Máte za úko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říkat čísla od  1….. do 10  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během toho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ěnit styl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klidného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n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naštvaný                                     dramatick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dojemný                              rychl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Šipka: doprava 4"/>
          <p:cNvSpPr/>
          <p:nvPr/>
        </p:nvSpPr>
        <p:spPr>
          <a:xfrm>
            <a:off x="2867040" y="3513240"/>
            <a:ext cx="803160" cy="336600"/>
          </a:xfrm>
          <a:prstGeom prst="rightArrow">
            <a:avLst>
              <a:gd name="adj1" fmla="val 50000"/>
              <a:gd name="adj2" fmla="val 4998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Šipka: doprava 5"/>
          <p:cNvSpPr/>
          <p:nvPr/>
        </p:nvSpPr>
        <p:spPr>
          <a:xfrm>
            <a:off x="3965400" y="4484520"/>
            <a:ext cx="801720" cy="336600"/>
          </a:xfrm>
          <a:prstGeom prst="rightArrow">
            <a:avLst>
              <a:gd name="adj1" fmla="val 50000"/>
              <a:gd name="adj2" fmla="val 4996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Šipka: dolů 6"/>
          <p:cNvSpPr/>
          <p:nvPr/>
        </p:nvSpPr>
        <p:spPr>
          <a:xfrm>
            <a:off x="2173320" y="2898720"/>
            <a:ext cx="442800" cy="411120"/>
          </a:xfrm>
          <a:prstGeom prst="downArrow">
            <a:avLst>
              <a:gd name="adj1" fmla="val 50000"/>
              <a:gd name="adj2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Šipka: doprava 7"/>
          <p:cNvSpPr/>
          <p:nvPr/>
        </p:nvSpPr>
        <p:spPr>
          <a:xfrm>
            <a:off x="5537160" y="3024360"/>
            <a:ext cx="1136520" cy="412560"/>
          </a:xfrm>
          <a:prstGeom prst="rightArrow">
            <a:avLst>
              <a:gd name="adj1" fmla="val 50000"/>
              <a:gd name="adj2" fmla="val 498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747440" y="696960"/>
            <a:ext cx="5638680" cy="920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a38b51"/>
                </a:solidFill>
                <a:latin typeface="Arial"/>
              </a:rPr>
              <a:t>Cvičení 2</a:t>
            </a: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1707840" y="1893600"/>
            <a:ext cx="57150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b40020"/>
                </a:solidFill>
                <a:latin typeface="Calibri"/>
                <a:ea typeface="Calibri"/>
              </a:rPr>
              <a:t>Odkašlejte si, něco si zamumlejte, zachraptěte jako při přípravě na proslov</a:t>
            </a:r>
            <a:r>
              <a:rPr b="1" lang="cs-CZ" sz="2400" spc="-1" strike="noStrike">
                <a:solidFill>
                  <a:srgbClr val="b40020"/>
                </a:solidFill>
                <a:latin typeface="Calibri"/>
                <a:ea typeface="Calibri"/>
              </a:rPr>
              <a:t>. ______________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Tón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který přitom vydáváte je vaš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přirozenou poloh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hlasu.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  <a:p>
            <a:pPr marL="914400" indent="-457200">
              <a:lnSpc>
                <a:spcPct val="100000"/>
              </a:lnSpc>
              <a:spcBef>
                <a:spcPts val="60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13" name="Zástupný symbol pro zápatí 3"/>
          <p:cNvSpPr/>
          <p:nvPr/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Dýchání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 typy dýchá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_hrudní (tj. horní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_brániční (tj. spodní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_smíšen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Běžně používáme všechny tři typ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ro řečnický projev je nejvhodnější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dýchání smíšené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b40020"/>
                </a:solidFill>
                <a:latin typeface="Calibri"/>
                <a:ea typeface="Calibri"/>
              </a:rPr>
              <a:t>P.S.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Špatná ekonomie dechu zhoršuje i kvalitu hlasu. (např.: polykání koncovek, nepřesná výslovno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25160" y="274320"/>
            <a:ext cx="8537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Technika </a:t>
            </a:r>
            <a:r>
              <a:rPr b="1" lang="cs-CZ" sz="2400" spc="-1" strike="noStrike">
                <a:solidFill>
                  <a:srgbClr val="7575d1"/>
                </a:solidFill>
                <a:latin typeface="Arial"/>
              </a:rPr>
              <a:t>dýchání  fonace  artikulace  mimoslovní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8060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vlivňuje pevnost hlasu, plynulost, přesn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lapejte po dechu 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dbalá artikulace = nesrozumiteln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jděte si svůj t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lte hlas :  vysoký - hlubok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or na posto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mik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Zástupný symbol pro online obrázek 6" descr=""/>
          <p:cNvPicPr/>
          <p:nvPr/>
        </p:nvPicPr>
        <p:blipFill>
          <a:blip r:embed="rId1"/>
          <a:stretch/>
        </p:blipFill>
        <p:spPr>
          <a:xfrm>
            <a:off x="5735520" y="1584360"/>
            <a:ext cx="2513160" cy="1676520"/>
          </a:xfrm>
          <a:prstGeom prst="rect">
            <a:avLst/>
          </a:prstGeom>
          <a:ln w="0">
            <a:noFill/>
          </a:ln>
        </p:spPr>
      </p:pic>
      <p:sp>
        <p:nvSpPr>
          <p:cNvPr id="1120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1" name="TextovéPole 7"/>
          <p:cNvSpPr/>
          <p:nvPr/>
        </p:nvSpPr>
        <p:spPr>
          <a:xfrm>
            <a:off x="7499520" y="4956120"/>
            <a:ext cx="11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Garamond"/>
              </a:rPr>
              <a:t>Tato fotka od autora Neznámý autor s licencí CC BY-SA-NC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2" name="Obrázek 9" descr=""/>
          <p:cNvPicPr/>
          <p:nvPr/>
        </p:nvPicPr>
        <p:blipFill>
          <a:blip r:embed="rId2"/>
          <a:stretch/>
        </p:blipFill>
        <p:spPr>
          <a:xfrm>
            <a:off x="4821120" y="4054320"/>
            <a:ext cx="3792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Praktické tipy - dýchání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Nadechněte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dostatek vzduch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(ne maximu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Nadechnutý vzduch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vol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plynul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ypouštějte (úsporně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Nezvyšujte hlas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oproti obvyklému způsobu mluvení (zvýšený hlas=větší spotřeba vzduch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dechujte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ús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nose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ároveň (rozezníte tak obličejové rezonan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buClr>
                <a:srgbClr val="b400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Držte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rs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mírně, nenápadně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ypjatá. Smíšené dýchání =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aktivizovat hrudník a dýchat bránicí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b4002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Mluvte pouze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ři dobrém zdravotním stav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fonačního ústrojí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891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brý řečník správně dýchá</a:t>
            </a:r>
            <a:br>
              <a:rPr sz="3200"/>
            </a:br>
            <a:endParaRPr b="1" lang="en-US" sz="32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979200" y="1600200"/>
            <a:ext cx="401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Calibri"/>
              </a:rPr>
              <a:t>Povrchní způsob dýchání = povrchní způsob uvažování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Calibri"/>
              </a:rPr>
              <a:t>Bránice - je náš jediný dýchací sval v těl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Calibri"/>
              </a:rPr>
              <a:t>Když bránici cvičíme, je mnohem pružnější, lépe se nám pracuje a myslí, jde nás více slyš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5495400" y="1558800"/>
            <a:ext cx="28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ip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33"/>
                </a:solidFill>
                <a:latin typeface="Calibri"/>
                <a:ea typeface="Calibri"/>
              </a:rPr>
              <a:t>Náš způsob dýchání může také negativně ovlivnit špatný způsob sezení nebo obepnuté oblečení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0" name="Picture 4" descr="Chlapec, Styling, Šik, Módní, Dítě"/>
          <p:cNvPicPr/>
          <p:nvPr/>
        </p:nvPicPr>
        <p:blipFill>
          <a:blip r:embed="rId1"/>
          <a:stretch/>
        </p:blipFill>
        <p:spPr>
          <a:xfrm>
            <a:off x="6224760" y="3895560"/>
            <a:ext cx="159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Cvičení 3 - dýchání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Hluboc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se několikrát nadechněte a vydechněte, potom během výdechu říkejte hlás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„a“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(nebo počítejte do deseti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ydechněte, na chvíl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adržte dech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a pak s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hluboka nadechněte do břicha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Posilujete tak brániční sv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Nadechněte se a s výdechem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šeptem rychle počítejte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Cvičení opakujte 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esilujt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h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Trénujte hrudní hlas. Pomalu a vznosně tvořt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hluboké samohlásk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( „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s pouhou housk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“ nebo „máma má málo máku“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Intonujt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v ostře oddělovaných impulzech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(„nalili liliputáni liliím vodu“ nebo „jelen letěl jetelem“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Mluvit do tečky a bez vaty. 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676160" y="160020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 algn="ctr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 si vás zapamatují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„výplňová slova“ tzn. vatu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02122"/>
                </a:solidFill>
                <a:latin typeface="Arial"/>
              </a:rPr>
              <a:t>- </a:t>
            </a:r>
            <a:r>
              <a:rPr b="0" i="1" lang="cs-CZ" sz="2000" spc="-1" strike="noStrike">
                <a:solidFill>
                  <a:srgbClr val="202122"/>
                </a:solidFill>
                <a:latin typeface="Arial"/>
              </a:rPr>
              <a:t>Jakoby – vlastně – čili – prostě - ja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02122"/>
                </a:solidFill>
                <a:latin typeface="Arial"/>
              </a:rPr>
              <a:t>- takové to - tak prostě nějak - jako že – normálně -  takhle - no, hmm – inu - že ano - že jo? - víš? – jaksi – prosím vás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02122"/>
                </a:solidFill>
                <a:latin typeface="Arial"/>
              </a:rPr>
              <a:t>- abych tak řekl - vole (i hrubší výrazy)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02122"/>
                </a:solidFill>
                <a:latin typeface="Arial"/>
              </a:rPr>
              <a:t>- de facto - nějakým způsobem - práv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sebereflexe 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96720" y="1301400"/>
            <a:ext cx="821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??? Víte sami o vaší „výplni“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šimli jste si svého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é“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„tedy“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ebo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jakoby“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Máte svoje SPECIÁLNÍ 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0" name="Obrázek 2" descr=""/>
          <p:cNvPicPr/>
          <p:nvPr/>
        </p:nvPicPr>
        <p:blipFill>
          <a:blip r:embed="rId1"/>
          <a:stretch/>
        </p:blipFill>
        <p:spPr>
          <a:xfrm>
            <a:off x="4714920" y="2031840"/>
            <a:ext cx="331164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47440" y="190476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pic>
        <p:nvPicPr>
          <p:cNvPr id="1059" name="Zástupný obsah 5" descr=""/>
          <p:cNvPicPr/>
          <p:nvPr/>
        </p:nvPicPr>
        <p:blipFill>
          <a:blip r:embed="rId1"/>
          <a:stretch/>
        </p:blipFill>
        <p:spPr>
          <a:xfrm>
            <a:off x="4680" y="0"/>
            <a:ext cx="9155160" cy="5996160"/>
          </a:xfrm>
          <a:prstGeom prst="rect">
            <a:avLst/>
          </a:prstGeom>
          <a:ln w="0">
            <a:noFill/>
          </a:ln>
        </p:spPr>
      </p:pic>
      <p:sp>
        <p:nvSpPr>
          <p:cNvPr id="1060" name="Zástupný symbol pro zápatí 3"/>
          <p:cNvSpPr/>
          <p:nvPr/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TextovéPole 6"/>
          <p:cNvSpPr/>
          <p:nvPr/>
        </p:nvSpPr>
        <p:spPr>
          <a:xfrm>
            <a:off x="314280" y="2541600"/>
            <a:ext cx="8537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čová technika – cvičení </a:t>
            </a:r>
            <a:r>
              <a:rPr b="1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is.vstecb.cz/auth/el/vste/zima2021/EFVP/um/Technika_reci.pdf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sem se naučila mluvit s Vojnarem https://is.vstecb.cz/auth/el/vste/zima2021/EFVP/um/Jak_jsem_se_naucila_mluvit_s_Vojnarem.pdf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TextovéPole 7"/>
          <p:cNvSpPr/>
          <p:nvPr/>
        </p:nvSpPr>
        <p:spPr>
          <a:xfrm>
            <a:off x="314280" y="4017960"/>
            <a:ext cx="6705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ové otázky k přednášce: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is.vstecb.cz/auth/elearning/test_qdef_edit?fakulta=5610;obdobi=198;kod=EFVP;predmet=25233;qdefurl=%2Fel%2Fvste%2Fzima2021%2FEFVP%2Fodp%2Ftb%2FEFVP_sada_1.qdefx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71240" y="274320"/>
            <a:ext cx="849132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Cvičení 4              </a:t>
            </a:r>
            <a:r>
              <a:rPr b="1" lang="cs-CZ" sz="3200" spc="-1" strike="noStrike">
                <a:solidFill>
                  <a:srgbClr val="b40020"/>
                </a:solidFill>
                <a:latin typeface="Arial"/>
              </a:rPr>
              <a:t>pro všechny a hned </a:t>
            </a:r>
            <a:endParaRPr b="1" lang="en-US" sz="32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15800" y="1136520"/>
            <a:ext cx="4470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ypněte všechny rušivé přístro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Zhluboka se nadechně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yslovte v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ednom výdech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ot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4765320" y="2392200"/>
            <a:ext cx="40734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Jeden dvá, to jsem já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jeden čtyry vylez z dír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jeden pět - trhal květ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jeden šest – ten měl čest, jeden sedum - vyšel před dům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jeden osum – ten měl rozum, jeden devět – ten byl medvěd, jeden deset - zůstal vi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To jsi 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Hlasová hygiena</a:t>
            </a:r>
            <a:br>
              <a:rPr sz="4400"/>
            </a:br>
            <a:endParaRPr b="1" lang="en-US" sz="4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645840" y="1600200"/>
            <a:ext cx="796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Naše hlasivky mají svoji teplotu a vlhkost –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mluvením se vysušují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Před důležitým projev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nepít nic velmi studeného ani horkého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Ne kofein nebo tein 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(ty vysušují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Když jsou už hlasivky přetížené, můžete použít například Vincentku.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Arial"/>
              </a:rPr>
              <a:t>(ve spreji, v pastilkách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ozor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říliš ostr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 dráždivá jíd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, která mohou podráždit sliznici hltanu, dráždění mohou působit tak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oříšky, kokosové ořech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 výrobky z kokosové moučky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černá mletá káva, koncentrovaný alkohol, kouř, léky na zklidnění, mrá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vykové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 pokašláván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Ženy v dob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nstru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řemáhat hlasivk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39400" y="274320"/>
            <a:ext cx="782316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Hlasová hygiena - prevence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71600" y="1268280"/>
            <a:ext cx="829296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učit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oužíva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vůj hlasový nástroj, tj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, rezonanční dutiny a mluvid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it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právnému držení tě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estoje, při chůzi i vsed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učit se vníma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áni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 vědomě ji používat jako „opratě“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statek tekut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(čistá voda nebo s trochou citronu či jablečného oc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lhkost vzduch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 prostředí, kde dlouhodobě pobývá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statek spán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 den přednesu leh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rozezpíva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e střední poloze svého hlas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ři pocitu hlasové únavy si můžeme akutně pomoc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sírováním krk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, palcem ruky, v místě kořene jazy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1" name="Picture 7" descr="Den hlasu: Chrapot nepodceňujte, může být projevem vážné nemoci! - tn.cz"/>
          <p:cNvPicPr/>
          <p:nvPr/>
        </p:nvPicPr>
        <p:blipFill>
          <a:blip r:embed="rId1"/>
          <a:stretch/>
        </p:blipFill>
        <p:spPr>
          <a:xfrm>
            <a:off x="4906800" y="4433760"/>
            <a:ext cx="33721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Modulace řeči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912600" y="1740960"/>
            <a:ext cx="3159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on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52192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rázová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c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6" name="Obrázek 5" descr="Hudba Melodie Music - Obrázek zdarma na Pixabay"/>
          <p:cNvPicPr/>
          <p:nvPr/>
        </p:nvPicPr>
        <p:blipFill>
          <a:blip r:embed="rId1"/>
          <a:stretch/>
        </p:blipFill>
        <p:spPr>
          <a:xfrm>
            <a:off x="2684520" y="2536920"/>
            <a:ext cx="1925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7286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Modulace řeči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167616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ilov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5219280" y="1600200"/>
            <a:ext cx="339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ativn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lasy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příjemné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lahodné, plné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temné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jasné, zněl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–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le tak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hlasy ostré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drsné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řezavé, studené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zapadlé, nezněl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1" name="Obrázek 5" descr="Základy mixu v domácím nahrávacím studiu - Hlasitost mixu - muzikus.cz"/>
          <p:cNvPicPr/>
          <p:nvPr/>
        </p:nvPicPr>
        <p:blipFill>
          <a:blip r:embed="rId1"/>
          <a:stretch/>
        </p:blipFill>
        <p:spPr>
          <a:xfrm>
            <a:off x="1523880" y="3591000"/>
            <a:ext cx="2543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286400" cy="2055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Pozor !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63" name="Zástupný symbol pro zápatí 2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4" name="Obrázek 3" descr=""/>
          <p:cNvPicPr/>
          <p:nvPr/>
        </p:nvPicPr>
        <p:blipFill>
          <a:blip r:embed="rId1"/>
          <a:stretch/>
        </p:blipFill>
        <p:spPr>
          <a:xfrm>
            <a:off x="6035760" y="13557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165" name="TextovéPole 5"/>
          <p:cNvSpPr/>
          <p:nvPr/>
        </p:nvSpPr>
        <p:spPr>
          <a:xfrm>
            <a:off x="1293840" y="321948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uvit tichým a ostýchavým hlasem je právě tak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vhod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ako útočná hlasitos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60760" cy="1162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b40020"/>
                </a:solidFill>
                <a:latin typeface="Arial"/>
              </a:rPr>
              <a:t>Jaký má kdo hlas? </a:t>
            </a:r>
            <a:endParaRPr b="1" lang="en-US" sz="28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3526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do ještě se hlasem živí?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lasatelé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oderátoř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erci, dabéř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ektoř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čitelé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luvčí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9" name="Zástupný obsah 5" descr="Valérie Zawadská: Chtěla bych být takovou babičkou! | Dopocutia.sk"/>
          <p:cNvPicPr/>
          <p:nvPr/>
        </p:nvPicPr>
        <p:blipFill>
          <a:blip r:embed="rId1"/>
          <a:stretch/>
        </p:blipFill>
        <p:spPr>
          <a:xfrm>
            <a:off x="4494240" y="1565280"/>
            <a:ext cx="3352680" cy="1362240"/>
          </a:xfrm>
          <a:prstGeom prst="rect">
            <a:avLst/>
          </a:prstGeom>
          <a:ln w="0">
            <a:noFill/>
          </a:ln>
        </p:spPr>
      </p:pic>
      <p:pic>
        <p:nvPicPr>
          <p:cNvPr id="1170" name="Obrázek 6" descr="Zemřela televizní hlasatelka Kamila Moučková (†92): Ohlásila vpád vojsk v  roce 1968 - Expres.cz"/>
          <p:cNvPicPr/>
          <p:nvPr/>
        </p:nvPicPr>
        <p:blipFill>
          <a:blip r:embed="rId2"/>
          <a:stretch/>
        </p:blipFill>
        <p:spPr>
          <a:xfrm>
            <a:off x="3774960" y="3160800"/>
            <a:ext cx="3305160" cy="1380960"/>
          </a:xfrm>
          <a:prstGeom prst="rect">
            <a:avLst/>
          </a:prstGeom>
          <a:ln w="0">
            <a:noFill/>
          </a:ln>
        </p:spPr>
      </p:pic>
      <p:pic>
        <p:nvPicPr>
          <p:cNvPr id="1171" name="Obrázek 7" descr=""/>
          <p:cNvPicPr/>
          <p:nvPr/>
        </p:nvPicPr>
        <p:blipFill>
          <a:blip r:embed="rId3"/>
          <a:stretch/>
        </p:blipFill>
        <p:spPr>
          <a:xfrm>
            <a:off x="1317600" y="4775040"/>
            <a:ext cx="3268800" cy="1839960"/>
          </a:xfrm>
          <a:prstGeom prst="rect">
            <a:avLst/>
          </a:prstGeom>
          <a:ln w="0">
            <a:noFill/>
          </a:ln>
        </p:spPr>
      </p:pic>
      <p:pic>
        <p:nvPicPr>
          <p:cNvPr id="1172" name="Obrázek 8" descr=""/>
          <p:cNvPicPr/>
          <p:nvPr/>
        </p:nvPicPr>
        <p:blipFill>
          <a:blip r:embed="rId4"/>
          <a:stretch/>
        </p:blipFill>
        <p:spPr>
          <a:xfrm>
            <a:off x="5315040" y="468324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2"/>
          <p:cNvGrpSpPr/>
          <p:nvPr/>
        </p:nvGrpSpPr>
        <p:grpSpPr>
          <a:xfrm>
            <a:off x="0" y="0"/>
            <a:ext cx="9144000" cy="6872040"/>
            <a:chOff x="0" y="0"/>
            <a:chExt cx="9144000" cy="6872040"/>
          </a:xfrm>
        </p:grpSpPr>
        <p:pic>
          <p:nvPicPr>
            <p:cNvPr id="1064" name="Picture 3" descr="_5ABA4066"/>
            <p:cNvPicPr/>
            <p:nvPr/>
          </p:nvPicPr>
          <p:blipFill>
            <a:blip r:embed="rId1"/>
            <a:stretch/>
          </p:blipFill>
          <p:spPr>
            <a:xfrm>
              <a:off x="2286000" y="0"/>
              <a:ext cx="344160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4" descr="_5ABA6011"/>
            <p:cNvPicPr/>
            <p:nvPr/>
          </p:nvPicPr>
          <p:blipFill>
            <a:blip r:embed="rId2"/>
            <a:stretch/>
          </p:blipFill>
          <p:spPr>
            <a:xfrm>
              <a:off x="5702400" y="0"/>
              <a:ext cx="3441600" cy="23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5" descr="_5ABA9183"/>
            <p:cNvPicPr/>
            <p:nvPr/>
          </p:nvPicPr>
          <p:blipFill>
            <a:blip r:embed="rId3"/>
            <a:srcRect l="0" t="0" r="0" b="19969"/>
            <a:stretch/>
          </p:blipFill>
          <p:spPr>
            <a:xfrm>
              <a:off x="4572000" y="4422240"/>
              <a:ext cx="457200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6" descr="_ACBE3376"/>
            <p:cNvPicPr/>
            <p:nvPr/>
          </p:nvPicPr>
          <p:blipFill>
            <a:blip r:embed="rId4"/>
            <a:srcRect l="0" t="0" r="0" b="41151"/>
            <a:stretch/>
          </p:blipFill>
          <p:spPr>
            <a:xfrm>
              <a:off x="2273400" y="4842360"/>
              <a:ext cx="2298600" cy="20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Picture 7" descr="_ACBE3313"/>
            <p:cNvPicPr/>
            <p:nvPr/>
          </p:nvPicPr>
          <p:blipFill>
            <a:blip r:embed="rId5"/>
            <a:stretch/>
          </p:blipFill>
          <p:spPr>
            <a:xfrm>
              <a:off x="0" y="3423240"/>
              <a:ext cx="2298600" cy="34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Picture 8" descr="_ACBE3362"/>
            <p:cNvPicPr/>
            <p:nvPr/>
          </p:nvPicPr>
          <p:blipFill>
            <a:blip r:embed="rId6"/>
            <a:stretch/>
          </p:blipFill>
          <p:spPr>
            <a:xfrm>
              <a:off x="5257800" y="2063160"/>
              <a:ext cx="3886200" cy="26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9" descr="_5ABA4503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2298600" cy="344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Rectangle 10"/>
          <p:cNvSpPr/>
          <p:nvPr/>
        </p:nvSpPr>
        <p:spPr>
          <a:xfrm>
            <a:off x="1724040" y="2085840"/>
            <a:ext cx="5749920" cy="2925720"/>
          </a:xfrm>
          <a:prstGeom prst="rect">
            <a:avLst/>
          </a:prstGeom>
          <a:solidFill>
            <a:srgbClr val="fef5c3"/>
          </a:solidFill>
          <a:ln w="76320">
            <a:solidFill>
              <a:srgbClr val="a38b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43120" y="2216160"/>
            <a:ext cx="5486400" cy="2346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b40020"/>
                </a:solidFill>
                <a:latin typeface="Times New Roman"/>
              </a:rPr>
              <a:t>Práce s jazykem </a:t>
            </a:r>
            <a:br>
              <a:rPr sz="4000"/>
            </a:br>
            <a:r>
              <a:rPr b="1" lang="cs-CZ" sz="4000" spc="-1" strike="noStrike">
                <a:solidFill>
                  <a:srgbClr val="b40020"/>
                </a:solidFill>
                <a:latin typeface="Times New Roman"/>
              </a:rPr>
              <a:t>a </a:t>
            </a:r>
            <a:br>
              <a:rPr sz="4000"/>
            </a:br>
            <a:r>
              <a:rPr b="1" lang="cs-CZ" sz="4000" spc="-1" strike="noStrike">
                <a:solidFill>
                  <a:srgbClr val="b40020"/>
                </a:solidFill>
                <a:latin typeface="Times New Roman"/>
              </a:rPr>
              <a:t>řečová technika</a:t>
            </a:r>
            <a:br>
              <a:rPr sz="4400"/>
            </a:br>
            <a:br>
              <a:rPr sz="1800"/>
            </a:br>
            <a:endParaRPr b="1" lang="en-US" sz="4000" spc="-1" strike="noStrike">
              <a:solidFill>
                <a:srgbClr val="a38b51"/>
              </a:solidFill>
              <a:latin typeface="Arial"/>
            </a:endParaRPr>
          </a:p>
        </p:txBody>
      </p:sp>
      <p:sp>
        <p:nvSpPr>
          <p:cNvPr id="1073" name="Zástupný symbol pro zápatí 2"/>
          <p:cNvSpPr/>
          <p:nvPr/>
        </p:nvSpPr>
        <p:spPr>
          <a:xfrm>
            <a:off x="1362240" y="6272280"/>
            <a:ext cx="45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02680"/>
            <a:ext cx="8505720" cy="190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Cíle přednášky a cvičení 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75" name="Text Box 3"/>
          <p:cNvSpPr/>
          <p:nvPr/>
        </p:nvSpPr>
        <p:spPr>
          <a:xfrm>
            <a:off x="1182600" y="1552680"/>
            <a:ext cx="750888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b40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b40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oubit znalosti o mluveném slov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b40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it si lépe techniku řeč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b400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varovat se nejčastějších řečnických chy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Zástupný symbol pro zápatí 1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82600" y="274320"/>
            <a:ext cx="868032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b40020"/>
                </a:solidFill>
                <a:latin typeface="Calibri"/>
                <a:ea typeface="Calibri"/>
              </a:rPr>
              <a:t>JAZYK</a:t>
            </a:r>
            <a:r>
              <a:rPr b="1" lang="cs-CZ" sz="2800" spc="-1" strike="noStrike">
                <a:solidFill>
                  <a:srgbClr val="b40020"/>
                </a:solidFill>
                <a:latin typeface="Calibri"/>
                <a:ea typeface="Calibri"/>
              </a:rPr>
              <a:t> je nástroj myšlení a vzájemného dorozumění</a:t>
            </a:r>
            <a:endParaRPr b="1" lang="en-US" sz="2800" spc="-1" strike="noStrike">
              <a:solidFill>
                <a:srgbClr val="b40020"/>
              </a:solidFill>
              <a:latin typeface="Arial"/>
            </a:endParaRPr>
          </a:p>
        </p:txBody>
      </p:sp>
      <p:pic>
        <p:nvPicPr>
          <p:cNvPr id="1078" name="Zástupný obsah 4" descr=""/>
          <p:cNvPicPr/>
          <p:nvPr/>
        </p:nvPicPr>
        <p:blipFill>
          <a:blip r:embed="rId1"/>
          <a:stretch/>
        </p:blipFill>
        <p:spPr>
          <a:xfrm>
            <a:off x="4191120" y="3292560"/>
            <a:ext cx="1904760" cy="2390760"/>
          </a:xfrm>
          <a:prstGeom prst="rect">
            <a:avLst/>
          </a:prstGeom>
          <a:ln w="0">
            <a:noFill/>
          </a:ln>
        </p:spPr>
      </p:pic>
      <p:sp>
        <p:nvSpPr>
          <p:cNvPr id="1079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0" name="TextovéPole 6"/>
          <p:cNvSpPr/>
          <p:nvPr/>
        </p:nvSpPr>
        <p:spPr>
          <a:xfrm>
            <a:off x="1809720" y="31082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1" name="TextovéPole 8"/>
          <p:cNvSpPr/>
          <p:nvPr/>
        </p:nvSpPr>
        <p:spPr>
          <a:xfrm>
            <a:off x="684360" y="1401840"/>
            <a:ext cx="796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Vývoj jazyka je od samého počátku lidské společnosti odrazem  jejího vývoj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Existu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ialektická jednot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mezi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myšlení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řeč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001880" y="274680"/>
            <a:ext cx="7286400" cy="162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b40020"/>
                </a:solidFill>
                <a:latin typeface="Arial"/>
              </a:rPr>
              <a:t>Dokonalá technika mluvení</a:t>
            </a:r>
            <a:endParaRPr b="1" lang="en-US" sz="36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1269720" y="2344680"/>
            <a:ext cx="64292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rama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hatá slovní zásob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stačí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 R O Z U M I T E L N 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Zástupný symbol pro zápatí 3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84186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b40020"/>
                </a:solidFill>
                <a:uFillTx/>
                <a:latin typeface="Calibri"/>
                <a:ea typeface="Calibri"/>
              </a:rPr>
              <a:t>3 </a:t>
            </a:r>
            <a:r>
              <a:rPr b="1" lang="cs-CZ" sz="3200" spc="-1" strike="noStrike" u="sng">
                <a:solidFill>
                  <a:srgbClr val="b40020"/>
                </a:solidFill>
                <a:uFillTx/>
                <a:latin typeface="Calibri"/>
                <a:ea typeface="Calibri"/>
              </a:rPr>
              <a:t>základní složky              </a:t>
            </a:r>
            <a:r>
              <a:rPr b="1" lang="cs-CZ" sz="4000" spc="-1" strike="noStrike" u="sng">
                <a:solidFill>
                  <a:srgbClr val="72bfc5"/>
                </a:solidFill>
                <a:uFillTx/>
                <a:latin typeface="Calibri"/>
                <a:ea typeface="Calibri"/>
              </a:rPr>
              <a:t>mluveného slova</a:t>
            </a: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855720" y="1600200"/>
            <a:ext cx="354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dýchání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tvoření hlas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b4002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tvoření hlás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5219280" y="1698480"/>
            <a:ext cx="339084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respir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fon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artiku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196640" y="638280"/>
            <a:ext cx="6589800" cy="674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b40020"/>
                </a:solidFill>
                <a:latin typeface="Arial"/>
              </a:rPr>
              <a:t>Zdrojem lidského hlasu jsou hlasivky</a:t>
            </a:r>
            <a:endParaRPr b="1" lang="en-US" sz="24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46200" y="5024520"/>
            <a:ext cx="771192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 je barva hlasu?   Co umí imitátor?   Kdo má kultivovaný hla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Zástupný symbol pro zápatí 4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2" name="Zástupný symbol obrázku 5" descr="LJP Mluvidla 2. část – hlasové ústrojí - ppt stáhnout"/>
          <p:cNvPicPr/>
          <p:nvPr/>
        </p:nvPicPr>
        <p:blipFill>
          <a:blip r:embed="rId1"/>
          <a:srcRect l="58" t="0" r="58" b="0"/>
          <a:stretch/>
        </p:blipFill>
        <p:spPr>
          <a:xfrm>
            <a:off x="641520" y="167940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093" name="Obrázek 6" descr=""/>
          <p:cNvPicPr/>
          <p:nvPr/>
        </p:nvPicPr>
        <p:blipFill>
          <a:blip r:embed="rId2"/>
          <a:stretch/>
        </p:blipFill>
        <p:spPr>
          <a:xfrm>
            <a:off x="5805360" y="2220840"/>
            <a:ext cx="23814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5370480" cy="1365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46402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40020"/>
                </a:solidFill>
                <a:latin typeface="Arial"/>
              </a:rPr>
              <a:t>Co je barva hlasu?</a:t>
            </a:r>
            <a:br>
              <a:rPr sz="4000"/>
            </a:br>
            <a:endParaRPr b="1" lang="en-US" sz="4000" spc="-1" strike="noStrike">
              <a:solidFill>
                <a:srgbClr val="b40020"/>
              </a:solidFill>
              <a:latin typeface="Arial"/>
            </a:endParaRPr>
          </a:p>
        </p:txBody>
      </p:sp>
      <p:sp>
        <p:nvSpPr>
          <p:cNvPr id="1095" name="Zástupný symbol pro zápatí 2"/>
          <p:cNvSpPr/>
          <p:nvPr/>
        </p:nvSpPr>
        <p:spPr>
          <a:xfrm>
            <a:off x="1352520" y="6267600"/>
            <a:ext cx="396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Štěpánka Jenešová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6" name="Picture 2" descr=""/>
          <p:cNvPicPr/>
          <p:nvPr/>
        </p:nvPicPr>
        <p:blipFill>
          <a:blip r:embed="rId1"/>
          <a:stretch/>
        </p:blipFill>
        <p:spPr>
          <a:xfrm>
            <a:off x="5238720" y="257004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097" name="TextovéPole 6"/>
          <p:cNvSpPr/>
          <p:nvPr/>
        </p:nvSpPr>
        <p:spPr>
          <a:xfrm>
            <a:off x="892080" y="3836880"/>
            <a:ext cx="725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Poslouchejte lidi kolem sebe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Poslouchejte jejich barvu hlasu a možná, že pak rozpoznáte i krásu jejich duše…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_je to něco neidentifikovatelného, </a:t>
            </a:r>
            <a:r>
              <a:rPr b="1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osobitého</a:t>
            </a: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_</a:t>
            </a:r>
            <a:r>
              <a:rPr b="1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jedinečná</a:t>
            </a:r>
            <a:r>
              <a:rPr b="0" lang="cs-CZ" sz="1800" spc="-1" strike="noStrike">
                <a:solidFill>
                  <a:srgbClr val="111111"/>
                </a:solidFill>
                <a:latin typeface="Calibri"/>
                <a:ea typeface="Calibri"/>
              </a:rPr>
              <a:t> součást každého z nás   (každý z nás má barvu úplně jinou, někdy sice podobnou, ale nikdy ne identickou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8" name="Obrázek 7" descr=""/>
          <p:cNvPicPr/>
          <p:nvPr/>
        </p:nvPicPr>
        <p:blipFill>
          <a:blip r:embed="rId2"/>
          <a:stretch/>
        </p:blipFill>
        <p:spPr>
          <a:xfrm>
            <a:off x="130320" y="1523880"/>
            <a:ext cx="8650080" cy="567000"/>
          </a:xfrm>
          <a:prstGeom prst="rect">
            <a:avLst/>
          </a:prstGeom>
          <a:ln w="0">
            <a:noFill/>
          </a:ln>
        </p:spPr>
      </p:pic>
      <p:sp>
        <p:nvSpPr>
          <p:cNvPr id="1099" name="TextovéPole 10"/>
          <p:cNvSpPr/>
          <p:nvPr/>
        </p:nvSpPr>
        <p:spPr>
          <a:xfrm>
            <a:off x="536400" y="213192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Calibri"/>
              </a:rPr>
              <a:t>Je výsledkem anatomických a fyziologických podmínek fonace každého jednotlivce a jejich důsledků akustických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silium</dc:creator>
  <dc:description/>
  <dc:language>en-US</dc:language>
  <cp:lastModifiedBy>Petra Prášilová</cp:lastModifiedBy>
  <cp:lastPrinted>2021-06-02T07:54:25Z</cp:lastPrinted>
  <dcterms:modified xsi:type="dcterms:W3CDTF">2021-11-29T11:47:58Z</dcterms:modified>
  <cp:revision>180</cp:revision>
  <dc:subject/>
  <dc:title>Jak úspěšně zvládnout  nejobtížnější manažerské situace  Jan Urban</dc:title>
</cp:coreProperties>
</file>